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96A-9AEC-475D-8F8B-48D0844876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E768-291F-4F60-9C55-B188B53358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B16-A70A-4BCE-B62C-E3161706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B61-D4AF-4DAD-A57D-BE56089C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8B0-080D-4BD2-9192-7652F0D3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85E-A2E4-4BC8-9951-44AB9041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E62-F750-4543-BB58-4E36443E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33A-40B4-42E6-9CD8-6382E6D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BCE-D317-4631-9770-888F080A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27A-2754-4C70-ABE7-F267CDE7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B16A-C536-4CFF-A764-34246F2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C13-572E-4601-BC69-E3BC392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4864-99A5-4240-ADCA-51ABC03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BA8-068F-4753-B2E1-80D622B7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FA94-7402-40B1-8D18-265A9DC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8CB2-FB73-4A05-99AA-CEB5782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F082-6E3F-45B9-8785-C553FF41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E65E-C45B-44F4-A5DC-BFADA358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3CAF-AE1D-4503-92D9-0E924A4B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3281-4922-497D-BE6A-AB611A1B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D99A-D7CB-473A-B291-34D7C4B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5E0D-BC1C-4BA6-806E-87B5C12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03E9-19E5-4D1B-A54F-5342403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0DA2-DC3B-4A99-B724-9E06595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E69-4A65-40B2-8D81-6D2D58E1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97ED-807D-4F68-AC69-8AEC244A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F006-EC1E-452B-9F47-263C7B04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F3D4-A00A-40AF-82AE-04233C8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79B7-56BD-4C82-B0B4-8E8D7C7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AC99-C818-44F3-8058-E8787B2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83B5-E934-4E99-ADD4-CDF7F14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DFF1-DA3A-4093-8214-13E54C0D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4F40-DA9A-44DB-A4FD-2B64BDA3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CF56-C352-4BB3-8AD6-CFFF37B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8A79-15C3-4D08-B4C9-4D70D64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A90-8E27-4C1C-BBE8-CD032B7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5EEE-C23B-4C22-9D27-FAA27968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580F-D766-4E05-80C1-F912544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AF88-0F4E-41DA-B1F9-7ECD5CF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B543-C374-4A38-88B9-1788D87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00C2-855C-4202-A4C0-084EA66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7ACE-65F1-4608-B3B1-80D3AAF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475A-6593-4F7F-A401-CBE2250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286F-BAF6-4C0B-9FC2-AB40A796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94A6-80C2-4B07-B8EE-C798BB84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3A5-0880-4022-B7E9-AF5FD14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AE6-B62D-4772-8498-94437FF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B6B-633F-44A5-9F8F-0C5F6A4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BCD-2269-4E34-986A-1D86D63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EB7-8F02-48EE-A263-9A9D24F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3608-53B4-4791-B4A5-858B518AB108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348-EDB4-435B-BDBA-E37BADC6582F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57C-48C2-4D27-BC8B-431A6182B5CB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2DD-771F-4EDA-BE3C-47E812BAEF63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Calibri"/>
              </a:rPr>
              <a:t>El Expresionismo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272088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Ismael Sánchez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rlos Noc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aría Gallar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José J.  Ruiz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Expresionismo"/>
          <p:cNvPicPr/>
          <p:nvPr/>
        </p:nvPicPr>
        <p:blipFill>
          <a:blip r:embed="rId1"/>
          <a:stretch/>
        </p:blipFill>
        <p:spPr>
          <a:xfrm>
            <a:off x="4211640" y="189864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Vincent van Gogh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6 Marcador de contenido" descr="van gogh.jpg"/>
          <p:cNvPicPr/>
          <p:nvPr/>
        </p:nvPicPr>
        <p:blipFill>
          <a:blip r:embed="rId1"/>
          <a:stretch/>
        </p:blipFill>
        <p:spPr>
          <a:xfrm>
            <a:off x="611280" y="1758960"/>
            <a:ext cx="3600360" cy="4738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pta la incidencia de la luz sobre el obje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tiliza colores violen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inceladas cor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omina la sensación de abocetami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íneas gruesas y sin difu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s pinturas expresan su estado de animo describiéndolo como un ser atormen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Mujer Arrodillada, Wilhelm Lehmbruc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3 Marcador de contenido" descr="Mujer_arrodillada_Wilhelm_Lehmbruck[1].jpg"/>
          <p:cNvPicPr/>
          <p:nvPr/>
        </p:nvPicPr>
        <p:blipFill>
          <a:blip r:embed="rId1"/>
          <a:stretch/>
        </p:blipFill>
        <p:spPr>
          <a:xfrm>
            <a:off x="3238560" y="1986120"/>
            <a:ext cx="26668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Características de la escultura “Mujer Arrodillada</a:t>
            </a:r>
            <a:r>
              <a:rPr b="0" lang="es-ES" sz="2500" spc="-1" strike="noStrike">
                <a:solidFill>
                  <a:srgbClr val="04617b"/>
                </a:solidFill>
                <a:latin typeface="Calibri"/>
              </a:rPr>
              <a:t>”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sación de esbelt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senta un rostro melancólico y nostál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álisis de la acción represent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bricada en br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za tectón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miento del ropaje que subrayan el ritmo lineal; adaptando las arrugas de la ropa al mov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Wilhelm Lehmbruc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13 Marcador de contenido" descr="wilhelm lehmbruck.bmp"/>
          <p:cNvPicPr/>
          <p:nvPr/>
        </p:nvPicPr>
        <p:blipFill>
          <a:blip r:embed="rId1"/>
          <a:stretch/>
        </p:blipFill>
        <p:spPr>
          <a:xfrm>
            <a:off x="826920" y="1628640"/>
            <a:ext cx="3602160" cy="4627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inspira en el clasic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basa en el naturalismo (cuerpo human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a formas cerradas y rotun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o de los más grandes artistas del S. X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gunas de sus obras se remontaban al Gó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4 Título" descr=""/>
          <p:cNvPicPr/>
          <p:nvPr/>
        </p:nvPicPr>
        <p:blipFill>
          <a:blip r:embed="rId1"/>
          <a:stretch/>
        </p:blipFill>
        <p:spPr>
          <a:xfrm>
            <a:off x="85680" y="469800"/>
            <a:ext cx="8693280" cy="1157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Taut_Glass_Pavilion_exterior_1914"/>
          <p:cNvPicPr/>
          <p:nvPr/>
        </p:nvPicPr>
        <p:blipFill>
          <a:blip r:embed="rId2"/>
          <a:stretch/>
        </p:blipFill>
        <p:spPr>
          <a:xfrm>
            <a:off x="1835280" y="1611360"/>
            <a:ext cx="5329080" cy="4875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Características del Pabellón de Crist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iene la base redon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staba coronado por una doble cúpula de cristal apunt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ido con vid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enia diversos colores (muy viv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bina la tradición antigu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Bruno Ta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5 Marcador de contenido" descr="bruno taut.jpg"/>
          <p:cNvPicPr/>
          <p:nvPr/>
        </p:nvPicPr>
        <p:blipFill>
          <a:blip r:embed="rId1"/>
          <a:stretch/>
        </p:blipFill>
        <p:spPr>
          <a:xfrm>
            <a:off x="755640" y="1506600"/>
            <a:ext cx="360036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Pabellón de Cristal fue su obra más represent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íder del movimiento expresion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e el vidrio y los col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implificación y estilización de la iconografía clásica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5 Título" descr=""/>
          <p:cNvPicPr/>
          <p:nvPr/>
        </p:nvPicPr>
        <p:blipFill>
          <a:blip r:embed="rId1"/>
          <a:stretch/>
        </p:blipFill>
        <p:spPr>
          <a:xfrm>
            <a:off x="-755640" y="969840"/>
            <a:ext cx="10528200" cy="3248280"/>
          </a:xfrm>
          <a:prstGeom prst="rect">
            <a:avLst/>
          </a:prstGeom>
          <a:ln w="0">
            <a:noFill/>
          </a:ln>
        </p:spPr>
      </p:pic>
      <p:sp>
        <p:nvSpPr>
          <p:cNvPr id="240" name="6 Estrella de 5 puntas"/>
          <p:cNvSpPr/>
          <p:nvPr/>
        </p:nvSpPr>
        <p:spPr>
          <a:xfrm>
            <a:off x="7451640" y="5516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7 Estrella de 5 puntas"/>
          <p:cNvSpPr/>
          <p:nvPr/>
        </p:nvSpPr>
        <p:spPr>
          <a:xfrm>
            <a:off x="6588000" y="5084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ovimiento Expresionis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urge en Alemania (principios del S X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luye en muchos camp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trario al impre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temporáneo a cambios político y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upuso un nuevo concepto del a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aparece tras la Segunda Guerra Mund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fluencia de la Sociedad en el Arte Expresionis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9640" y="256500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ociedad hipócrita, lo que provoco un arte interior, brutal y angusti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odo de interpretar las experiencias de una emergente sociedad industr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rebelde al desarrollo de una sociedad burgue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ía para la critica de la sociedad en todos sus aspe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Características del Expresionism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4000" y="1844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ona las f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ores fuertes y pur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binaciones al 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iv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ostros desfigurados y tris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presentación de paisa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úsqueda implícita de la novedad, la originalidad y el vi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so de nuevos mater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xpresionismo. El Grito, obra de Edvard Munch"/>
          <p:cNvPicPr/>
          <p:nvPr/>
        </p:nvPicPr>
        <p:blipFill>
          <a:blip r:embed="rId1"/>
          <a:stretch/>
        </p:blipFill>
        <p:spPr>
          <a:xfrm>
            <a:off x="2124000" y="1484280"/>
            <a:ext cx="4969080" cy="5040360"/>
          </a:xfrm>
          <a:prstGeom prst="rect">
            <a:avLst/>
          </a:prstGeom>
          <a:ln w="0">
            <a:noFill/>
          </a:ln>
        </p:spPr>
      </p:pic>
      <p:pic>
        <p:nvPicPr>
          <p:cNvPr id="212" name="4 Título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321760" cy="116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Características del cuadro “El grito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ón de la ima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ores intensos que contrastan con otros más apag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neas onduladas y rectas (Busqueda del contras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ión del miedo personal del autor (ante una sociedad cada vez más compleja y difu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es lineas verticales dividen la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iagonal cruza el cuadro desde el extremo izquier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nea horizontal que divide el cuad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dward Münc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5 Marcador de contenido" descr="Edvard_Munch_1921.jpg"/>
          <p:cNvPicPr/>
          <p:nvPr/>
        </p:nvPicPr>
        <p:blipFill>
          <a:blip r:embed="rId1"/>
          <a:stretch/>
        </p:blipFill>
        <p:spPr>
          <a:xfrm>
            <a:off x="809640" y="1920960"/>
            <a:ext cx="3333600" cy="443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284720" y="2060280"/>
            <a:ext cx="4680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so expresivo y creativo de la línea y el co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te expresividad de los rostros y la actitud de las figu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cursor del expre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fermedad, muerte y dolor son motivos frecuentes en su obra (debido a su infancia desgraciada)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 Título" descr=""/>
          <p:cNvPicPr/>
          <p:nvPr/>
        </p:nvPicPr>
        <p:blipFill>
          <a:blip r:embed="rId1"/>
          <a:stretch/>
        </p:blipFill>
        <p:spPr>
          <a:xfrm>
            <a:off x="450720" y="676440"/>
            <a:ext cx="8321760" cy="957240"/>
          </a:xfrm>
          <a:prstGeom prst="rect">
            <a:avLst/>
          </a:prstGeom>
          <a:ln w="0">
            <a:noFill/>
          </a:ln>
        </p:spPr>
      </p:pic>
      <p:pic>
        <p:nvPicPr>
          <p:cNvPr id="219" name="il_fi" descr="La_noche_estrellada1"/>
          <p:cNvPicPr/>
          <p:nvPr/>
        </p:nvPicPr>
        <p:blipFill>
          <a:blip r:embed="rId2"/>
          <a:stretch/>
        </p:blipFill>
        <p:spPr>
          <a:xfrm>
            <a:off x="1692360" y="1844640"/>
            <a:ext cx="583884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alibri"/>
              </a:rPr>
              <a:t>Características del cuadro “The Starry Night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trata de un paisaje noctu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utilizan colores fuertes (predominio del amarillo y azu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ona las f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s ondulaciones atraviesan el cielo de izquierda a derech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astros se encuentran magnificados por una serie de círculos concéntr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no sombrí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5:39:51Z</dcterms:created>
  <dc:creator>María</dc:creator>
  <dc:description/>
  <dc:language>en-US</dc:language>
  <cp:lastModifiedBy>María</cp:lastModifiedBy>
  <dcterms:modified xsi:type="dcterms:W3CDTF">2011-01-24T16:00:10Z</dcterms:modified>
  <cp:revision>39</cp:revision>
  <dc:subject/>
  <dc:title>El Expresionismo</dc:title>
</cp:coreProperties>
</file>